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E84-CA81-4E68-9D21-0ADB04CA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4DE-89A4-465A-9BDF-CDF50DA8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F65-1188-47ED-97F3-DD233E3B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623-26B1-4353-B304-AEBCD8A5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AC1-34CD-4C10-A379-F65675C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87A-290C-410D-BDCB-B82ABEAC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3F5-9BA4-4959-935B-A520D4A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2F3-48CA-42EC-9C6F-10774E20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849-98C0-47FE-A1A9-50B0DFD0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7D8-500F-43FE-BD6D-6B4B543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70A-54E8-43C4-BE51-29A5291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076-7FB0-4166-89C5-339651A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689-0864-482C-B8F1-153B277BD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nasa.gov/" TargetMode="External"/><Relationship Id="rId3" Type="http://schemas.openxmlformats.org/officeDocument/2006/relationships/hyperlink" Target="http://www.zmenaklimatu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4897440" cy="4189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33360"/>
            <a:ext cx="9144000" cy="1225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3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lobální oteplován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43200" y="155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estrální práce IZ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660564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2007/2008, skupina 8 (Šonský, Trakal, Herbe, Gajzler, Matějk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kument „Nepříjemná pravda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s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zmenaklimatu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4897440" cy="4189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189000"/>
            <a:ext cx="1800360" cy="1727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858920" y="1197000"/>
            <a:ext cx="2737080" cy="2087640"/>
            <a:chOff x="4858920" y="1197000"/>
            <a:chExt cx="2737080" cy="2087640"/>
          </a:xfrm>
        </p:grpSpPr>
        <p:sp>
          <p:nvSpPr>
            <p:cNvPr id="49" name=""/>
            <p:cNvSpPr/>
            <p:nvPr/>
          </p:nvSpPr>
          <p:spPr>
            <a:xfrm flipH="1">
              <a:off x="5364000" y="1484280"/>
              <a:ext cx="2160720" cy="151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508360" y="1628640"/>
              <a:ext cx="2087640" cy="1656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148360" y="1341360"/>
              <a:ext cx="2303280" cy="1366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4858920" y="1197000"/>
              <a:ext cx="2521080" cy="1295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87280" y="1773360"/>
            <a:ext cx="4897440" cy="4751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572000" y="2131920"/>
            <a:ext cx="1294920" cy="1513080"/>
            <a:chOff x="4572000" y="2131920"/>
            <a:chExt cx="1294920" cy="1513080"/>
          </a:xfrm>
        </p:grpSpPr>
        <p:sp>
          <p:nvSpPr>
            <p:cNvPr id="55" name=""/>
            <p:cNvSpPr/>
            <p:nvPr/>
          </p:nvSpPr>
          <p:spPr>
            <a:xfrm flipH="1">
              <a:off x="5651280" y="3429000"/>
              <a:ext cx="215640" cy="216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572000" y="2131920"/>
              <a:ext cx="216000" cy="144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00720" y="1988640"/>
            <a:ext cx="1511280" cy="1800720"/>
            <a:chOff x="4500720" y="1988640"/>
            <a:chExt cx="1511280" cy="1800720"/>
          </a:xfrm>
        </p:grpSpPr>
        <p:sp>
          <p:nvSpPr>
            <p:cNvPr id="58" name=""/>
            <p:cNvSpPr/>
            <p:nvPr/>
          </p:nvSpPr>
          <p:spPr>
            <a:xfrm>
              <a:off x="5724360" y="3716280"/>
              <a:ext cx="28764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500720" y="1988640"/>
              <a:ext cx="0" cy="287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11640" y="1987560"/>
            <a:ext cx="1800000" cy="2017800"/>
            <a:chOff x="4211640" y="1987560"/>
            <a:chExt cx="1800000" cy="2017800"/>
          </a:xfrm>
        </p:grpSpPr>
        <p:sp>
          <p:nvSpPr>
            <p:cNvPr id="61" name=""/>
            <p:cNvSpPr/>
            <p:nvPr/>
          </p:nvSpPr>
          <p:spPr>
            <a:xfrm flipH="1">
              <a:off x="5724000" y="3860640"/>
              <a:ext cx="287640" cy="144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211640" y="1987560"/>
              <a:ext cx="216000" cy="146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066920" y="1844280"/>
            <a:ext cx="1945080" cy="2376720"/>
            <a:chOff x="4066920" y="1844280"/>
            <a:chExt cx="1945080" cy="2376720"/>
          </a:xfrm>
        </p:grpSpPr>
        <p:sp>
          <p:nvSpPr>
            <p:cNvPr id="64" name=""/>
            <p:cNvSpPr/>
            <p:nvPr/>
          </p:nvSpPr>
          <p:spPr>
            <a:xfrm>
              <a:off x="5724360" y="4076640"/>
              <a:ext cx="287640" cy="144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066920" y="1844280"/>
              <a:ext cx="73080" cy="28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51280" y="1846440"/>
            <a:ext cx="2160360" cy="2590560"/>
            <a:chOff x="3851280" y="1846440"/>
            <a:chExt cx="2160360" cy="2590560"/>
          </a:xfrm>
        </p:grpSpPr>
        <p:sp>
          <p:nvSpPr>
            <p:cNvPr id="67" name=""/>
            <p:cNvSpPr/>
            <p:nvPr/>
          </p:nvSpPr>
          <p:spPr>
            <a:xfrm flipH="1">
              <a:off x="5724000" y="4292640"/>
              <a:ext cx="287640" cy="144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851280" y="1846440"/>
              <a:ext cx="146160" cy="214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788000" y="907560"/>
            <a:ext cx="2736720" cy="2450160"/>
            <a:chOff x="4788000" y="907560"/>
            <a:chExt cx="2736720" cy="2450160"/>
          </a:xfrm>
        </p:grpSpPr>
        <p:sp>
          <p:nvSpPr>
            <p:cNvPr id="70" name=""/>
            <p:cNvSpPr/>
            <p:nvPr/>
          </p:nvSpPr>
          <p:spPr>
            <a:xfrm>
              <a:off x="5580000" y="3357720"/>
              <a:ext cx="1944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788000" y="907560"/>
              <a:ext cx="360360" cy="151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435640" y="2707920"/>
              <a:ext cx="1512720" cy="28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148360" y="1341000"/>
              <a:ext cx="576000" cy="1297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547640" y="2133720"/>
            <a:ext cx="4176720" cy="403200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33336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unce dodává zemi nepostradatelné teplo, většina energie se ale od povrchu odráží zpět do vesmíru. Lidstvo vypouštěním CO2 a dalších skleníkových plynů mění složení atmosféry a vzniká tzv. „skleníkový efekt“, který úniku tepla z atmosféry zabrání a tím se celá planeta otepluje… (kliknutím spustíte anima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92360" y="3141720"/>
            <a:ext cx="3744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důsledk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ůsledky globálního otepl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Tání ledovců: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působuje zvyšování hladiny moře =&gt; zatopení obydlených oblastí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azně mění složení vody v oceánech a narušuje tak přirozené proudění, zpomaluje se Golfský proud (jeho funkci si popíšeme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Zvyšování teplot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&gt; posunutí podnebných pásů =&gt; Vymírání druhů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výší-li se průměrná teplota na rovníku o 1°C, zvýší se na pólech o 12°C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sychají důležitá jezera a řeky zásobující přilehlá města pitnou vodou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vyšující se výskyt přírodních katastrof a extrémních výkyvů počasí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ropické bouře, hurikány, tsunami a záplavy se v posledních letech objevují rekordně často a jejich následky jsou mnohem ničivější než tomu bývalo. Také teploty lámou staleté rekordy i několik dní po sobě.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O NEJSOU ODHADY ANI SPEKULACE, TO JSOU FAKT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353440" cy="5025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ání ledov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12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836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ásledující fotografie ukazuje, jak se rozloha jezera Tsho Rolpa v Nepálu od 50. let minulého století do roku 1997 zvětšila sedminásobně z 0,23 na 1,65 km2, důvodem je tání ledovců kolem jezera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ání ledov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83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lší důkazy o tom, že naše planeta se otepluje… Zajímavý je satelitní snímek přímo od NASA, který zobrazuje úbytek Arktického ledu za 24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86560" y="1628640"/>
            <a:ext cx="2557440" cy="1382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651672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583320" y="3068640"/>
            <a:ext cx="2560680" cy="30970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0" y="3716280"/>
            <a:ext cx="3240000" cy="2430360"/>
            <a:chOff x="0" y="3716280"/>
            <a:chExt cx="3240000" cy="243036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0" y="3716280"/>
              <a:ext cx="3240000" cy="24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2089080" y="3787560"/>
              <a:ext cx="1008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97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276720" y="3716280"/>
            <a:ext cx="3240000" cy="2430360"/>
            <a:chOff x="3276720" y="3716280"/>
            <a:chExt cx="3240000" cy="2430360"/>
          </a:xfrm>
        </p:grpSpPr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3276720" y="3716280"/>
              <a:ext cx="3240000" cy="24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5365800" y="3789000"/>
              <a:ext cx="1008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00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561600">
            <a:off x="6588000" y="2276640"/>
            <a:ext cx="235764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249000">
            <a:off x="6372000" y="4508640"/>
            <a:ext cx="2519280" cy="188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350400">
            <a:off x="295200" y="3548160"/>
            <a:ext cx="2359080" cy="3097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21334200">
            <a:off x="2916360" y="1988640"/>
            <a:ext cx="3384360" cy="220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trémní počas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981000"/>
            <a:ext cx="794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borníci předpokládají, že se v důsledku klimatických změn budou častěji vyskytovat extrémní projevy počasí, například vlny veder, silné tropické bouře, hurikány a tajfu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 rot="20909400">
            <a:off x="2700360" y="4149720"/>
            <a:ext cx="3384360" cy="2424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lfský 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28440" y="765000"/>
            <a:ext cx="890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 tropických oblastí proudí ohřátá voda v horních vrstvách oceánu směrem k západní Evropě, kde se ochlazuje, tím klesá d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dních vrstev oceánu a vrací se zpět k rovníku… Evropu tak celkově otepluje vzduch ze západu, který přináší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ání ledovců ale ovlivňuje poměr slané a sladké vody v oceánu, voda tím ztrácí na své váze a není schopná klesat, to způsobuj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pomalování atlantického proudění… Co se stane až roztaje Grónsko a Golfský proud se zastaví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ba led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915160"/>
            <a:ext cx="9144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 minulosti k tomuto jevu již několikrát došlo, není proto jediný důvod domnívat se, že k tomu nemůže dojít v nejbližších letech… Evropa zamrzne, stejně tak značná část severní Ameriky bude pokrytá ledem… Jak dlouho? Poslední doba ledová trvala 1000 let a přišla náhle během deseti let, vědci se domnívají, že ta nadcházející může trvat až 10000 let, než začne Golfský proud znovu cirkulovat. Otázka zní, dá se tomu nějak zabrán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36640"/>
            <a:ext cx="9144000" cy="7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Evropy přestane proudit teplý vzduch a průměrné teploty půjdou pod bod mrazu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žná si teď v duchu říkáte: „To už se mě netýká, bude to trvat ještě minimálně 100 let a to už tady nebudu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mismu bylo dost… Buďte realisté a uvědomte si pravd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k bojovat se změnou klima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Snížit emise skleníkových plynů do atmosféry: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lováním fosilních paliv vzniká oxid uhličitý – ten má hlavní podíl na skleníkovém efektu. Jenom Amerika spotřebuje denně 20 miliónu barelů ropy. V ropě se ale točí obrovské peníze, které pro USA mají větší cenu než prostředí ve kterém žijeme. Je to právě USA spolu s Austrálií, kdo se neúčastní Kjótské dohody o limitech emisí. Přes 600 uhelných elektráren v USA produkuje téměř 10% globálního množství emisí CO2. Největší množství oxidu uhličitého ale vypouští do ovzduší Čína za rok 2006 je to 6,2 miliard tun CO2, což je o 400 miliónů tun více než v 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816360" cy="2633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2520" y="6308640"/>
            <a:ext cx="86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dle NASA už vystoupala hladina CO2 v atmosféře za kritický bod, kdy už nelze změny klimatu odvráti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58:42Z</dcterms:created>
  <dc:creator>Stepan Sonsky</dc:creator>
  <dc:description/>
  <dc:language>en-US</dc:language>
  <cp:lastModifiedBy>Stepan Sonsky</cp:lastModifiedBy>
  <dcterms:modified xsi:type="dcterms:W3CDTF">2007-12-20T06:15:35Z</dcterms:modified>
  <cp:revision>10</cp:revision>
  <dc:subject/>
  <dc:title>Globální oteplování</dc:title>
</cp:coreProperties>
</file>